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29E-51DA-45FB-B434-5930FBEA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6B8-95AF-4136-B942-F3C0A578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3D4C-0BB0-48C1-B1B4-55B70516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08A5-D7A6-41B1-B156-365A3045D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946-44EE-4942-9A0F-6ADC7C96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C0D-C750-40CD-8A74-F51BCED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B48-C625-4BF9-831D-33E1CD6F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E068-364C-4F2D-968A-0A96DADC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E80-D48A-4190-AEC4-115CFA8B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A39-13C3-48FD-A12E-C16304FD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8D68-A671-4DFF-96E4-19D1554A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6D00-A0DF-4A1A-B048-4FFECF0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F65-0DAC-441B-B226-A4F146880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fUuwnD2-fg&amp;feature=channe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et.colorado.edu/web-pages/simulations-base.html" TargetMode="External"/><Relationship Id="rId2" Type="http://schemas.openxmlformats.org/officeDocument/2006/relationships/hyperlink" Target="http://phet.colorado.edu/web-pages/simulations-bas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nduc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55480" y="5218200"/>
            <a:ext cx="8388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a wire coil usually wrapped around an ir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54080" y="1128600"/>
            <a:ext cx="3819600" cy="381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4316400" y="1201680"/>
            <a:ext cx="4538520" cy="3834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500760" y="10587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roidal 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971640" y="188640"/>
            <a:ext cx="6408360" cy="3024000"/>
            <a:chOff x="971640" y="188640"/>
            <a:chExt cx="6408360" cy="3024000"/>
          </a:xfrm>
        </p:grpSpPr>
        <p:sp>
          <p:nvSpPr>
            <p:cNvPr id="102" name="Line 3"/>
            <p:cNvSpPr/>
            <p:nvPr/>
          </p:nvSpPr>
          <p:spPr>
            <a:xfrm flipV="1">
              <a:off x="971640" y="188640"/>
              <a:ext cx="0" cy="30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971640" y="3212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Freeform 5"/>
          <p:cNvSpPr/>
          <p:nvPr/>
        </p:nvSpPr>
        <p:spPr>
          <a:xfrm rot="21440400">
            <a:off x="1835280" y="333360"/>
            <a:ext cx="5113080" cy="280836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9280" y="26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1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9280" y="3476520"/>
            <a:ext cx="7200720" cy="3147120"/>
            <a:chOff x="179280" y="3476520"/>
            <a:chExt cx="7200720" cy="3147120"/>
          </a:xfrm>
        </p:grpSpPr>
        <p:grpSp>
          <p:nvGrpSpPr>
            <p:cNvPr id="108" name="Group 11"/>
            <p:cNvGrpSpPr/>
            <p:nvPr/>
          </p:nvGrpSpPr>
          <p:grpSpPr>
            <a:xfrm>
              <a:off x="971640" y="3476520"/>
              <a:ext cx="6408360" cy="2625120"/>
              <a:chOff x="971640" y="3476520"/>
              <a:chExt cx="6408360" cy="2625120"/>
            </a:xfrm>
          </p:grpSpPr>
          <p:sp>
            <p:nvSpPr>
              <p:cNvPr id="109" name="Line 12"/>
              <p:cNvSpPr/>
              <p:nvPr/>
            </p:nvSpPr>
            <p:spPr>
              <a:xfrm flipV="1">
                <a:off x="971640" y="3476520"/>
                <a:ext cx="0" cy="26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971640" y="6101640"/>
                <a:ext cx="64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4"/>
            <p:cNvSpPr/>
            <p:nvPr/>
          </p:nvSpPr>
          <p:spPr>
            <a:xfrm flipV="1" rot="159600">
              <a:off x="1835280" y="3933000"/>
              <a:ext cx="5113080" cy="210456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360 h 2104560"/>
                <a:gd name="textAreaBottom" fmla="*/ 2105280 h 2104560"/>
              </a:gdLst>
              <a:ahLst/>
              <a:rect l="textAreaLeft" t="textAreaTop" r="textAreaRight" b="textAreaBottom"/>
              <a:pathLst>
                <a:path w="1406" h="703">
                  <a:moveTo>
                    <a:pt x="0" y="703"/>
                  </a:moveTo>
                  <a:cubicBezTo>
                    <a:pt x="64" y="464"/>
                    <a:pt x="129" y="226"/>
                    <a:pt x="363" y="113"/>
                  </a:cubicBezTo>
                  <a:cubicBezTo>
                    <a:pt x="597" y="0"/>
                    <a:pt x="1001" y="11"/>
                    <a:pt x="1406" y="2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179280" y="3997440"/>
              <a:ext cx="144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ff"/>
                  </a:solidFill>
                  <a:latin typeface="Comic Sans MS"/>
                </a:rPr>
                <a:t>Back EM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1116000" y="61639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Comic Sans MS"/>
                </a:rPr>
                <a:t>Close 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 flipV="1">
              <a:off x="1908000" y="3809880"/>
              <a:ext cx="0" cy="231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443400" y="3794040"/>
                <a:ext cx="384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1979640" y="333000"/>
            <a:ext cx="6408360" cy="3168720"/>
            <a:chOff x="1979640" y="333000"/>
            <a:chExt cx="6408360" cy="3168720"/>
          </a:xfrm>
        </p:grpSpPr>
        <p:sp>
          <p:nvSpPr>
            <p:cNvPr id="117" name="Line 5"/>
            <p:cNvSpPr/>
            <p:nvPr/>
          </p:nvSpPr>
          <p:spPr>
            <a:xfrm flipV="1">
              <a:off x="1979640" y="33300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979640" y="350172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Freeform 7"/>
          <p:cNvSpPr/>
          <p:nvPr/>
        </p:nvSpPr>
        <p:spPr>
          <a:xfrm rot="21440400">
            <a:off x="1909440" y="690120"/>
            <a:ext cx="6626160" cy="2629080"/>
          </a:xfrm>
          <a:custGeom>
            <a:avLst/>
            <a:gdLst>
              <a:gd name="textAreaLeft" fmla="*/ 0 w 6626160"/>
              <a:gd name="textAreaRight" fmla="*/ 6626520 w 662616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164360" y="35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692360" y="36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H="1">
            <a:off x="1979640" y="54936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32000" y="40464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3"/>
          <p:cNvGraphicFramePr/>
          <p:nvPr/>
        </p:nvGraphicFramePr>
        <p:xfrm>
          <a:off x="5219640" y="1327320"/>
          <a:ext cx="187344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327320"/>
                    <a:ext cx="187344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4"/>
          <p:cNvSpPr/>
          <p:nvPr/>
        </p:nvSpPr>
        <p:spPr>
          <a:xfrm>
            <a:off x="179280" y="447840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eaning of time consta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time taken for the current to increase to 63% of the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84360" y="1268280"/>
            <a:ext cx="16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63 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1979640" y="1413000"/>
            <a:ext cx="1152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13200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8"/>
          <p:cNvGraphicFramePr/>
          <p:nvPr/>
        </p:nvGraphicFramePr>
        <p:xfrm>
          <a:off x="2987640" y="3573360"/>
          <a:ext cx="47304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73360"/>
                    <a:ext cx="473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71280" y="7920"/>
          <a:ext cx="252108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7920"/>
                    <a:ext cx="25210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7"/>
          <p:cNvSpPr/>
          <p:nvPr/>
        </p:nvSpPr>
        <p:spPr>
          <a:xfrm>
            <a:off x="2592360" y="152280"/>
            <a:ext cx="633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Larger inductance produces larger back EMF with the same change rate of magnetic flux as in           . It opposes the EMF of the power supply, resulting in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onger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time to reach maximum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8360" y="4013280"/>
            <a:ext cx="812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Larger resistance results in smaller maximum current. So it takes shorter</a:t>
            </a:r>
            <a:r>
              <a:rPr b="0" lang="en-N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time to reach 63% of the maximum current, resulting in smaller </a:t>
            </a:r>
            <a:r>
              <a:rPr b="0" lang="en-NZ" sz="3200" spc="-1" strike="noStrike">
                <a:solidFill>
                  <a:srgbClr val="005da2"/>
                </a:solidFill>
                <a:latin typeface="Calibri"/>
              </a:rPr>
              <a:t>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3132000" y="1562040"/>
                <a:ext cx="122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971640" y="2060640"/>
            <a:ext cx="6408360" cy="4176000"/>
            <a:chOff x="971640" y="2060640"/>
            <a:chExt cx="6408360" cy="4176000"/>
          </a:xfrm>
        </p:grpSpPr>
        <p:sp>
          <p:nvSpPr>
            <p:cNvPr id="138" name="Line 7"/>
            <p:cNvSpPr/>
            <p:nvPr/>
          </p:nvSpPr>
          <p:spPr>
            <a:xfrm flipV="1">
              <a:off x="971640" y="2060640"/>
              <a:ext cx="0" cy="41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971640" y="6236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Freeform 9"/>
          <p:cNvSpPr/>
          <p:nvPr/>
        </p:nvSpPr>
        <p:spPr>
          <a:xfrm>
            <a:off x="1901880" y="3319560"/>
            <a:ext cx="4981680" cy="2962080"/>
          </a:xfrm>
          <a:custGeom>
            <a:avLst/>
            <a:gdLst>
              <a:gd name="textAreaLeft" fmla="*/ 0 w 4981680"/>
              <a:gd name="textAreaRight" fmla="*/ 4982040 w 4981680"/>
              <a:gd name="textAreaTop" fmla="*/ 0 h 2962080"/>
              <a:gd name="textAreaBottom" fmla="*/ 2962440 h 2962080"/>
            </a:gdLst>
            <a:ahLst/>
            <a:rect l="textAreaLeft" t="textAreaTop" r="textAreaRight" b="textAreaBottom"/>
            <a:pathLst>
              <a:path w="3138" h="1866">
                <a:moveTo>
                  <a:pt x="0" y="1866"/>
                </a:moveTo>
                <a:cubicBezTo>
                  <a:pt x="124" y="1607"/>
                  <a:pt x="218" y="620"/>
                  <a:pt x="741" y="310"/>
                </a:cubicBezTo>
                <a:cubicBezTo>
                  <a:pt x="1264" y="0"/>
                  <a:pt x="2639" y="69"/>
                  <a:pt x="313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-3636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1600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50920" y="260280"/>
            <a:ext cx="78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would the graph change 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inductance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?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resistance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 (be care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7"/>
          <p:cNvSpPr/>
          <p:nvPr/>
        </p:nvSpPr>
        <p:spPr>
          <a:xfrm rot="21440400">
            <a:off x="1834920" y="3470400"/>
            <a:ext cx="7850160" cy="2627280"/>
          </a:xfrm>
          <a:custGeom>
            <a:avLst/>
            <a:gdLst>
              <a:gd name="textAreaLeft" fmla="*/ 0 w 7850160"/>
              <a:gd name="textAreaRight" fmla="*/ 7850520 w 785016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1908000" y="4510080"/>
            <a:ext cx="3888000" cy="1727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449" h="1088">
                <a:moveTo>
                  <a:pt x="0" y="1088"/>
                </a:moveTo>
                <a:cubicBezTo>
                  <a:pt x="110" y="936"/>
                  <a:pt x="251" y="354"/>
                  <a:pt x="659" y="177"/>
                </a:cubicBezTo>
                <a:cubicBezTo>
                  <a:pt x="1067" y="0"/>
                  <a:pt x="2076" y="58"/>
                  <a:pt x="2449" y="27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971280" y="4221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262728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973080" y="5229360"/>
            <a:ext cx="1513080" cy="14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53" h="1">
                <a:moveTo>
                  <a:pt x="953" y="0"/>
                </a:moveTo>
                <a:lnTo>
                  <a:pt x="0" y="1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482920" y="5229360"/>
            <a:ext cx="1440" cy="1020600"/>
          </a:xfrm>
          <a:custGeom>
            <a:avLst/>
            <a:gdLst>
              <a:gd name="textAreaLeft" fmla="*/ 0 w 1440"/>
              <a:gd name="textAreaRight" fmla="*/ 1800 w 144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" h="643">
                <a:moveTo>
                  <a:pt x="0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973080" y="4222800"/>
            <a:ext cx="2349720" cy="14400"/>
          </a:xfrm>
          <a:custGeom>
            <a:avLst/>
            <a:gdLst>
              <a:gd name="textAreaLeft" fmla="*/ 0 w 2349720"/>
              <a:gd name="textAreaRight" fmla="*/ 2350080 w 2349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80" h="9">
                <a:moveTo>
                  <a:pt x="1480" y="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334800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05600" y="6240600"/>
            <a:ext cx="11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2"/>
          <p:cNvSpPr/>
          <p:nvPr/>
        </p:nvSpPr>
        <p:spPr>
          <a:xfrm rot="7031400">
            <a:off x="4219200" y="1407960"/>
            <a:ext cx="165132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5797440" y="9936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6013440" y="9810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203640" y="4508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 rot="10800000">
            <a:off x="4030560" y="2412720"/>
            <a:ext cx="936720" cy="934920"/>
          </a:xfrm>
          <a:prstGeom prst="rightArrow">
            <a:avLst>
              <a:gd name="adj1" fmla="val 50000"/>
              <a:gd name="adj2" fmla="val 250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 rot="10800000">
            <a:off x="7888320" y="2755800"/>
            <a:ext cx="936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550872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reasing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4920" y="981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decreasing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4920" y="16765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flux 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-3636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cc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303640" y="5157720"/>
            <a:ext cx="42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788000" y="1159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De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38360" y="325080"/>
            <a:ext cx="77724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opposes the decrease in current, so the current drop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57240" y="2662200"/>
            <a:ext cx="61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9640" y="3684600"/>
            <a:ext cx="81360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Key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tors oppose a changing current but have no effect on constant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.b. a real inductor has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0"/>
          <p:cNvGrpSpPr/>
          <p:nvPr/>
        </p:nvGrpSpPr>
        <p:grpSpPr>
          <a:xfrm>
            <a:off x="2195280" y="115920"/>
            <a:ext cx="2808360" cy="2592000"/>
            <a:chOff x="2195280" y="115920"/>
            <a:chExt cx="2808360" cy="2592000"/>
          </a:xfrm>
        </p:grpSpPr>
        <p:sp>
          <p:nvSpPr>
            <p:cNvPr id="176" name="Line 4"/>
            <p:cNvSpPr/>
            <p:nvPr/>
          </p:nvSpPr>
          <p:spPr>
            <a:xfrm>
              <a:off x="3546720" y="4932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3651120" y="115920"/>
              <a:ext cx="0" cy="11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H="1">
              <a:off x="219528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2195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33"/>
            <p:cNvGrpSpPr/>
            <p:nvPr/>
          </p:nvGrpSpPr>
          <p:grpSpPr>
            <a:xfrm>
              <a:off x="2976120" y="2167560"/>
              <a:ext cx="1040760" cy="540360"/>
              <a:chOff x="2976120" y="2167560"/>
              <a:chExt cx="1040760" cy="540360"/>
            </a:xfrm>
          </p:grpSpPr>
          <p:sp>
            <p:nvSpPr>
              <p:cNvPr id="181" name="Freeform 25"/>
              <p:cNvSpPr/>
              <p:nvPr/>
            </p:nvSpPr>
            <p:spPr>
              <a:xfrm>
                <a:off x="29761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314604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331596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28"/>
              <p:cNvSpPr/>
              <p:nvPr/>
            </p:nvSpPr>
            <p:spPr>
              <a:xfrm>
                <a:off x="348588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9"/>
              <p:cNvSpPr/>
              <p:nvPr/>
            </p:nvSpPr>
            <p:spPr>
              <a:xfrm>
                <a:off x="365580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0"/>
              <p:cNvSpPr/>
              <p:nvPr/>
            </p:nvSpPr>
            <p:spPr>
              <a:xfrm>
                <a:off x="38257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1"/>
              <p:cNvSpPr/>
              <p:nvPr/>
            </p:nvSpPr>
            <p:spPr>
              <a:xfrm>
                <a:off x="2976120" y="261756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2"/>
              <p:cNvSpPr/>
              <p:nvPr/>
            </p:nvSpPr>
            <p:spPr>
              <a:xfrm>
                <a:off x="2976120" y="270792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34"/>
            <p:cNvSpPr/>
            <p:nvPr/>
          </p:nvSpPr>
          <p:spPr>
            <a:xfrm flipH="1">
              <a:off x="365184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5003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2195640" y="2546280"/>
              <a:ext cx="78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4015440" y="2546280"/>
              <a:ext cx="36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V="1">
              <a:off x="4379040" y="2221920"/>
              <a:ext cx="20844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4638960" y="2546280"/>
              <a:ext cx="36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179280" y="299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hen the switch opens, the current drops to zero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179280" y="4149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large flux chang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71280" y="49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s a very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arge E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250920" y="5729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spark across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high_voltage_disconnect_switch.mp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nergy stored in an indu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9120" y="1712520"/>
            <a:ext cx="847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urrent in an inductor produces a  magnetic field, therefore energy is stored in the magnetic 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: self inductance in henries (H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: current in amps (A)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951360" y="2990880"/>
                <a:ext cx="1565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Inductor ra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785600"/>
            <a:ext cx="864216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A coil can induce a voltage in itself !!!?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28" descr=""/>
          <p:cNvPicPr/>
          <p:nvPr/>
        </p:nvPicPr>
        <p:blipFill>
          <a:blip r:embed="rId1"/>
          <a:stretch/>
        </p:blipFill>
        <p:spPr>
          <a:xfrm>
            <a:off x="2235240" y="2443320"/>
            <a:ext cx="49658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4080" y="471240"/>
            <a:ext cx="58420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xample: As shown, the coil has an inductance of 0.20H. When the switch S is open, the current falls from 5.0A to zero in 1.0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263520" y="2990880"/>
            <a:ext cx="85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. What is the induced volt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. What  is the resistance, R, of the c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. What is the energy stored when S is clo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. What is the time constant of the co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959440" y="544680"/>
            <a:ext cx="2933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H, 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s, V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V, 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957240" y="654120"/>
                <a:ext cx="6100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H, </m:t>
                    </m:r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s, V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V,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852480" y="2406600"/>
                <a:ext cx="3889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884160" y="3355920"/>
                <a:ext cx="57754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993600" y="4232160"/>
                <a:ext cx="3956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847800" y="1639800"/>
                <a:ext cx="5253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667480" y="1749600"/>
            <a:ext cx="2981160" cy="2019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628560" y="72720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x. (a) What is the steady current flowing when the switch has been closed for a long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28560" y="1530360"/>
            <a:ext cx="47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. What is the voltage across the inductor at the instant the witch is clo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 find the time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How long does it take for the current to reach a value of 0.021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54120"/>
            <a:ext cx="777240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Mutual Inductance</a:t>
            </a:r>
            <a:br>
              <a:rPr sz="4000"/>
            </a:b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2"/>
              </a:rPr>
              <a:t>phet.colorado.edu/web-pages/simulations-base.htm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Predict what happens when the switch clo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8" descr=""/>
          <p:cNvPicPr/>
          <p:nvPr/>
        </p:nvPicPr>
        <p:blipFill>
          <a:blip r:embed="rId1"/>
          <a:stretch/>
        </p:blipFill>
        <p:spPr>
          <a:xfrm>
            <a:off x="1870200" y="1968480"/>
            <a:ext cx="5330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What happens when the switch open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1"/>
          <a:stretch/>
        </p:blipFill>
        <p:spPr>
          <a:xfrm>
            <a:off x="1906560" y="1384200"/>
            <a:ext cx="46702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324000" y="3903840"/>
            <a:ext cx="7988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designed to oppose a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chang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755640" y="5108400"/>
            <a:ext cx="77724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becaus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can induce an EMF in itself. This is called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Self Induc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1" descr=""/>
          <p:cNvPicPr/>
          <p:nvPr/>
        </p:nvPicPr>
        <p:blipFill>
          <a:blip r:embed="rId1"/>
          <a:stretch/>
        </p:blipFill>
        <p:spPr>
          <a:xfrm>
            <a:off x="1724040" y="252360"/>
            <a:ext cx="4454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 rot="7031400">
            <a:off x="4219560" y="1426680"/>
            <a:ext cx="165096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5797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6040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3348000" y="472428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2"/>
          <p:cNvSpPr/>
          <p:nvPr/>
        </p:nvSpPr>
        <p:spPr>
          <a:xfrm rot="10800000">
            <a:off x="4284720" y="2491920"/>
            <a:ext cx="792000" cy="574920"/>
          </a:xfrm>
          <a:prstGeom prst="rightArrow">
            <a:avLst>
              <a:gd name="adj1" fmla="val 50000"/>
              <a:gd name="adj2" fmla="val 344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7912080" y="2681280"/>
            <a:ext cx="504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"/>
          <p:cNvSpPr/>
          <p:nvPr/>
        </p:nvSpPr>
        <p:spPr>
          <a:xfrm rot="10800000">
            <a:off x="550836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44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9840" y="981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492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rough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492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920" y="558972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1835280" y="4221000"/>
            <a:ext cx="306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21964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4788000" y="189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40" y="1456920"/>
            <a:ext cx="8282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oil can induce a voltage in it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L is called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09680" y="41227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elf Inductance (L) is measured in henries 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957240" y="2114640"/>
                <a:ext cx="52434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299880" y="514512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ircuit Symbol for ind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448240" y="5108400"/>
            <a:ext cx="1971720" cy="6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336600" y="582624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sidering resist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4718160" y="5875200"/>
            <a:ext cx="24667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in current, so the current ris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0720" y="3213000"/>
            <a:ext cx="53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4230720"/>
            <a:ext cx="68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(The coil induces an EMF in itsel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3"/>
          <p:cNvGrpSpPr/>
          <p:nvPr/>
        </p:nvGrpSpPr>
        <p:grpSpPr>
          <a:xfrm>
            <a:off x="971640" y="3068280"/>
            <a:ext cx="6408360" cy="3168720"/>
            <a:chOff x="971640" y="3068280"/>
            <a:chExt cx="6408360" cy="3168720"/>
          </a:xfrm>
        </p:grpSpPr>
        <p:sp>
          <p:nvSpPr>
            <p:cNvPr id="89" name="Line 30"/>
            <p:cNvSpPr/>
            <p:nvPr/>
          </p:nvSpPr>
          <p:spPr>
            <a:xfrm flipV="1">
              <a:off x="971640" y="306828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1"/>
            <p:cNvSpPr/>
            <p:nvPr/>
          </p:nvSpPr>
          <p:spPr>
            <a:xfrm>
              <a:off x="971640" y="623700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Freeform 32"/>
          <p:cNvSpPr/>
          <p:nvPr/>
        </p:nvSpPr>
        <p:spPr>
          <a:xfrm rot="21440400">
            <a:off x="900000" y="3357720"/>
            <a:ext cx="5113440" cy="280800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2808000"/>
              <a:gd name="textAreaBottom" fmla="*/ 2808000 h 280800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08000" y="26845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380360" y="630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324000" y="630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7"/>
          <p:cNvSpPr/>
          <p:nvPr/>
        </p:nvSpPr>
        <p:spPr>
          <a:xfrm flipH="1">
            <a:off x="971640" y="328464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1547640" y="2924280"/>
            <a:ext cx="14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 = V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3995640" y="40053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 is the ohmic resistance of the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0"/>
          <p:cNvGraphicFramePr/>
          <p:nvPr/>
        </p:nvGraphicFramePr>
        <p:xfrm>
          <a:off x="6443640" y="4581360"/>
          <a:ext cx="15112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581360"/>
                    <a:ext cx="15112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35" descr=""/>
          <p:cNvPicPr/>
          <p:nvPr/>
        </p:nvPicPr>
        <p:blipFill>
          <a:blip r:embed="rId3"/>
          <a:stretch/>
        </p:blipFill>
        <p:spPr>
          <a:xfrm>
            <a:off x="2052720" y="252360"/>
            <a:ext cx="46371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10T00:04:41Z</dcterms:modified>
  <cp:revision>78</cp:revision>
  <dc:subject/>
  <dc:title>PowerPoint Presentation</dc:title>
</cp:coreProperties>
</file>