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3.png" ContentType="image/png"/>
  <Override PartName="/ppt/media/image8.wmf" ContentType="image/x-wmf"/>
  <Override PartName="/ppt/media/image12.jpeg" ContentType="image/jpeg"/>
  <Override PartName="/ppt/media/image7.png" ContentType="image/png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E590-1ACF-4CB0-9FE6-CDDF5A9A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F00C-7368-4F94-BDAB-09069449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1D25-1569-4017-A9FC-2CB5EA8E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48E5-0DA0-401F-84BA-92CECC755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D899-EDBC-45E4-AEB3-4BE15A3F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4117-8834-4806-9D74-6FB06EBD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46C8-E97F-434E-89E9-0EE88DC1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A816-88A8-4B12-B273-5C876113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9E34-549B-4B64-8953-D7E90641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6813-A4FA-4336-A9B2-1A745FAF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3717-5C11-457A-AE26-573CBEEA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ED59-4D43-4C90-94B4-44C559D6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8840-33BC-48C4-8962-CAA061284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gfUuwnD2-fg&amp;feature=channe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het.colorado.edu/web-pages/simulations-base.html" TargetMode="External"/><Relationship Id="rId2" Type="http://schemas.openxmlformats.org/officeDocument/2006/relationships/hyperlink" Target="http://phet.colorado.edu/web-pages/simulations-base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Induc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555480" y="5218200"/>
            <a:ext cx="83883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An inductor is a wire coil usually wrapped around an iron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154080" y="1128600"/>
            <a:ext cx="3819600" cy="3819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2"/>
          <a:stretch/>
        </p:blipFill>
        <p:spPr>
          <a:xfrm>
            <a:off x="4316400" y="1201680"/>
            <a:ext cx="4538520" cy="3834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"/>
          <p:cNvSpPr/>
          <p:nvPr/>
        </p:nvSpPr>
        <p:spPr>
          <a:xfrm>
            <a:off x="500760" y="105876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Toroidal c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971640" y="188640"/>
            <a:ext cx="6408360" cy="3024000"/>
            <a:chOff x="971640" y="188640"/>
            <a:chExt cx="6408360" cy="3024000"/>
          </a:xfrm>
        </p:grpSpPr>
        <p:sp>
          <p:nvSpPr>
            <p:cNvPr id="102" name="Line 3"/>
            <p:cNvSpPr/>
            <p:nvPr/>
          </p:nvSpPr>
          <p:spPr>
            <a:xfrm flipV="1">
              <a:off x="971640" y="188640"/>
              <a:ext cx="0" cy="30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4"/>
            <p:cNvSpPr/>
            <p:nvPr/>
          </p:nvSpPr>
          <p:spPr>
            <a:xfrm>
              <a:off x="971640" y="3212640"/>
              <a:ext cx="64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Freeform 5"/>
          <p:cNvSpPr/>
          <p:nvPr/>
        </p:nvSpPr>
        <p:spPr>
          <a:xfrm rot="21440400">
            <a:off x="1835280" y="333360"/>
            <a:ext cx="5113080" cy="2808360"/>
          </a:xfrm>
          <a:custGeom>
            <a:avLst/>
            <a:gdLst>
              <a:gd name="textAreaLeft" fmla="*/ 0 w 5113080"/>
              <a:gd name="textAreaRight" fmla="*/ 5113440 w 5113080"/>
              <a:gd name="textAreaTop" fmla="*/ 0 h 2808360"/>
              <a:gd name="textAreaBottom" fmla="*/ 2808720 h 2808360"/>
            </a:gdLst>
            <a:ahLst/>
            <a:rect l="textAreaLeft" t="textAreaTop" r="textAreaRight" b="textAreaBottom"/>
            <a:pathLst>
              <a:path w="1406" h="703">
                <a:moveTo>
                  <a:pt x="0" y="703"/>
                </a:moveTo>
                <a:cubicBezTo>
                  <a:pt x="64" y="464"/>
                  <a:pt x="129" y="226"/>
                  <a:pt x="363" y="113"/>
                </a:cubicBezTo>
                <a:cubicBezTo>
                  <a:pt x="597" y="0"/>
                  <a:pt x="1001" y="11"/>
                  <a:pt x="1406" y="2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79280" y="260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116000" y="328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lose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20"/>
          <p:cNvGrpSpPr/>
          <p:nvPr/>
        </p:nvGrpSpPr>
        <p:grpSpPr>
          <a:xfrm>
            <a:off x="179280" y="3476520"/>
            <a:ext cx="7200720" cy="3147120"/>
            <a:chOff x="179280" y="3476520"/>
            <a:chExt cx="7200720" cy="3147120"/>
          </a:xfrm>
        </p:grpSpPr>
        <p:grpSp>
          <p:nvGrpSpPr>
            <p:cNvPr id="108" name="Group 11"/>
            <p:cNvGrpSpPr/>
            <p:nvPr/>
          </p:nvGrpSpPr>
          <p:grpSpPr>
            <a:xfrm>
              <a:off x="971640" y="3476520"/>
              <a:ext cx="6408360" cy="2625120"/>
              <a:chOff x="971640" y="3476520"/>
              <a:chExt cx="6408360" cy="2625120"/>
            </a:xfrm>
          </p:grpSpPr>
          <p:sp>
            <p:nvSpPr>
              <p:cNvPr id="109" name="Line 12"/>
              <p:cNvSpPr/>
              <p:nvPr/>
            </p:nvSpPr>
            <p:spPr>
              <a:xfrm flipV="1">
                <a:off x="971640" y="3476520"/>
                <a:ext cx="0" cy="262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13"/>
              <p:cNvSpPr/>
              <p:nvPr/>
            </p:nvSpPr>
            <p:spPr>
              <a:xfrm>
                <a:off x="971640" y="6101640"/>
                <a:ext cx="640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Freeform 14"/>
            <p:cNvSpPr/>
            <p:nvPr/>
          </p:nvSpPr>
          <p:spPr>
            <a:xfrm flipV="1" rot="159600">
              <a:off x="1835280" y="3933000"/>
              <a:ext cx="5113080" cy="2104560"/>
            </a:xfrm>
            <a:custGeom>
              <a:avLst/>
              <a:gdLst>
                <a:gd name="textAreaLeft" fmla="*/ 0 w 5113080"/>
                <a:gd name="textAreaRight" fmla="*/ 5113440 w 5113080"/>
                <a:gd name="textAreaTop" fmla="*/ 360 h 2104560"/>
                <a:gd name="textAreaBottom" fmla="*/ 2105280 h 2104560"/>
              </a:gdLst>
              <a:ahLst/>
              <a:rect l="textAreaLeft" t="textAreaTop" r="textAreaRight" b="textAreaBottom"/>
              <a:pathLst>
                <a:path w="1406" h="703">
                  <a:moveTo>
                    <a:pt x="0" y="703"/>
                  </a:moveTo>
                  <a:cubicBezTo>
                    <a:pt x="64" y="464"/>
                    <a:pt x="129" y="226"/>
                    <a:pt x="363" y="113"/>
                  </a:cubicBezTo>
                  <a:cubicBezTo>
                    <a:pt x="597" y="0"/>
                    <a:pt x="1001" y="11"/>
                    <a:pt x="1406" y="2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15"/>
            <p:cNvSpPr/>
            <p:nvPr/>
          </p:nvSpPr>
          <p:spPr>
            <a:xfrm>
              <a:off x="179280" y="3997440"/>
              <a:ext cx="144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ff"/>
                  </a:solidFill>
                  <a:latin typeface="Comic Sans MS"/>
                </a:rPr>
                <a:t>Back EM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16"/>
            <p:cNvSpPr/>
            <p:nvPr/>
          </p:nvSpPr>
          <p:spPr>
            <a:xfrm>
              <a:off x="1116000" y="61639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Comic Sans MS"/>
                </a:rPr>
                <a:t>Close swi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17"/>
            <p:cNvSpPr/>
            <p:nvPr/>
          </p:nvSpPr>
          <p:spPr>
            <a:xfrm flipV="1">
              <a:off x="1908000" y="3809880"/>
              <a:ext cx="0" cy="231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3443400" y="3794040"/>
                <a:ext cx="384804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MF in coil 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ΔI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4"/>
          <p:cNvGrpSpPr/>
          <p:nvPr/>
        </p:nvGrpSpPr>
        <p:grpSpPr>
          <a:xfrm>
            <a:off x="1979640" y="333000"/>
            <a:ext cx="6408360" cy="3168720"/>
            <a:chOff x="1979640" y="333000"/>
            <a:chExt cx="6408360" cy="3168720"/>
          </a:xfrm>
        </p:grpSpPr>
        <p:sp>
          <p:nvSpPr>
            <p:cNvPr id="117" name="Line 5"/>
            <p:cNvSpPr/>
            <p:nvPr/>
          </p:nvSpPr>
          <p:spPr>
            <a:xfrm flipV="1">
              <a:off x="1979640" y="333000"/>
              <a:ext cx="0" cy="31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6"/>
            <p:cNvSpPr/>
            <p:nvPr/>
          </p:nvSpPr>
          <p:spPr>
            <a:xfrm>
              <a:off x="1979640" y="3501720"/>
              <a:ext cx="64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Freeform 7"/>
          <p:cNvSpPr/>
          <p:nvPr/>
        </p:nvSpPr>
        <p:spPr>
          <a:xfrm rot="21440400">
            <a:off x="1909440" y="690120"/>
            <a:ext cx="6626160" cy="2629080"/>
          </a:xfrm>
          <a:custGeom>
            <a:avLst/>
            <a:gdLst>
              <a:gd name="textAreaLeft" fmla="*/ 0 w 6626160"/>
              <a:gd name="textAreaRight" fmla="*/ 6626520 w 6626160"/>
              <a:gd name="textAreaTop" fmla="*/ 0 h 2629080"/>
              <a:gd name="textAreaBottom" fmla="*/ 2629440 h 2629080"/>
            </a:gdLst>
            <a:ahLst/>
            <a:rect l="textAreaLeft" t="textAreaTop" r="textAreaRight" b="textAreaBottom"/>
            <a:pathLst>
              <a:path w="1406" h="703">
                <a:moveTo>
                  <a:pt x="0" y="703"/>
                </a:moveTo>
                <a:cubicBezTo>
                  <a:pt x="64" y="464"/>
                  <a:pt x="129" y="226"/>
                  <a:pt x="363" y="113"/>
                </a:cubicBezTo>
                <a:cubicBezTo>
                  <a:pt x="597" y="0"/>
                  <a:pt x="1001" y="11"/>
                  <a:pt x="1406" y="2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7164360" y="3573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1692360" y="3645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lose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"/>
          <p:cNvSpPr/>
          <p:nvPr/>
        </p:nvSpPr>
        <p:spPr>
          <a:xfrm flipH="1">
            <a:off x="1979640" y="549360"/>
            <a:ext cx="662472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332000" y="404640"/>
            <a:ext cx="144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Object 13"/>
          <p:cNvGraphicFramePr/>
          <p:nvPr/>
        </p:nvGraphicFramePr>
        <p:xfrm>
          <a:off x="5219640" y="1327320"/>
          <a:ext cx="1873440" cy="18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327320"/>
                    <a:ext cx="1873440" cy="18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14"/>
          <p:cNvSpPr/>
          <p:nvPr/>
        </p:nvSpPr>
        <p:spPr>
          <a:xfrm>
            <a:off x="179280" y="4478400"/>
            <a:ext cx="7921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Meaning of time constan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he time taken for the current to increase to 63% of the maximum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684360" y="1268280"/>
            <a:ext cx="165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0.63 I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1979640" y="1413000"/>
            <a:ext cx="1152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3132000" y="1413000"/>
            <a:ext cx="0" cy="20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18"/>
          <p:cNvGraphicFramePr/>
          <p:nvPr/>
        </p:nvGraphicFramePr>
        <p:xfrm>
          <a:off x="2987640" y="3573360"/>
          <a:ext cx="47304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3573360"/>
                    <a:ext cx="4730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4"/>
          <p:cNvGraphicFramePr/>
          <p:nvPr/>
        </p:nvGraphicFramePr>
        <p:xfrm>
          <a:off x="71280" y="7920"/>
          <a:ext cx="2521080" cy="24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7920"/>
                    <a:ext cx="2521080" cy="24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 Box 7"/>
          <p:cNvSpPr/>
          <p:nvPr/>
        </p:nvSpPr>
        <p:spPr>
          <a:xfrm>
            <a:off x="2592360" y="152280"/>
            <a:ext cx="6335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Larger inductance produces larger back EMF with the same change rate of magnetic flux as in           . It opposes the EMF of the power supply, resulting in </a:t>
            </a:r>
            <a:r>
              <a:rPr b="1" i="1" lang="en-NZ" sz="3200" spc="-1" strike="noStrike">
                <a:solidFill>
                  <a:srgbClr val="ff0000"/>
                </a:solidFill>
                <a:latin typeface="Comic Sans MS"/>
              </a:rPr>
              <a:t>longer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 time to reach maximum cur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468360" y="4013280"/>
            <a:ext cx="8120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ff"/>
                </a:solidFill>
                <a:latin typeface="Comic Sans MS"/>
              </a:rPr>
              <a:t>Larger resistance results in smaller maximum current. So it takes shorter</a:t>
            </a:r>
            <a:r>
              <a:rPr b="0" lang="en-NZ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NZ" sz="3200" spc="-1" strike="noStrike">
                <a:solidFill>
                  <a:srgbClr val="0000ff"/>
                </a:solidFill>
                <a:latin typeface="Comic Sans MS"/>
              </a:rPr>
              <a:t>time to reach 63% of the maximum current, resulting in smaller </a:t>
            </a:r>
            <a:r>
              <a:rPr b="0" lang="en-NZ" sz="3200" spc="-1" strike="noStrike">
                <a:solidFill>
                  <a:srgbClr val="005da2"/>
                </a:solidFill>
                <a:latin typeface="Calibri"/>
              </a:rPr>
              <a:t>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"/>
              <p:cNvSpPr txBox="1"/>
              <p:nvPr/>
            </p:nvSpPr>
            <p:spPr>
              <a:xfrm>
                <a:off x="3132000" y="1562040"/>
                <a:ext cx="1224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Δφ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6"/>
          <p:cNvGrpSpPr/>
          <p:nvPr/>
        </p:nvGrpSpPr>
        <p:grpSpPr>
          <a:xfrm>
            <a:off x="971640" y="2060640"/>
            <a:ext cx="6408360" cy="4176000"/>
            <a:chOff x="971640" y="2060640"/>
            <a:chExt cx="6408360" cy="4176000"/>
          </a:xfrm>
        </p:grpSpPr>
        <p:sp>
          <p:nvSpPr>
            <p:cNvPr id="138" name="Line 7"/>
            <p:cNvSpPr/>
            <p:nvPr/>
          </p:nvSpPr>
          <p:spPr>
            <a:xfrm flipV="1">
              <a:off x="971640" y="2060640"/>
              <a:ext cx="0" cy="41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971640" y="6236640"/>
              <a:ext cx="64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Freeform 9"/>
          <p:cNvSpPr/>
          <p:nvPr/>
        </p:nvSpPr>
        <p:spPr>
          <a:xfrm>
            <a:off x="1901880" y="3319560"/>
            <a:ext cx="4981680" cy="2962080"/>
          </a:xfrm>
          <a:custGeom>
            <a:avLst/>
            <a:gdLst>
              <a:gd name="textAreaLeft" fmla="*/ 0 w 4981680"/>
              <a:gd name="textAreaRight" fmla="*/ 4982040 w 4981680"/>
              <a:gd name="textAreaTop" fmla="*/ 0 h 2962080"/>
              <a:gd name="textAreaBottom" fmla="*/ 2962440 h 2962080"/>
            </a:gdLst>
            <a:ahLst/>
            <a:rect l="textAreaLeft" t="textAreaTop" r="textAreaRight" b="textAreaBottom"/>
            <a:pathLst>
              <a:path w="3138" h="1866">
                <a:moveTo>
                  <a:pt x="0" y="1866"/>
                </a:moveTo>
                <a:cubicBezTo>
                  <a:pt x="124" y="1607"/>
                  <a:pt x="218" y="620"/>
                  <a:pt x="741" y="310"/>
                </a:cubicBezTo>
                <a:cubicBezTo>
                  <a:pt x="1264" y="0"/>
                  <a:pt x="2639" y="69"/>
                  <a:pt x="3138" y="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-36360" y="2276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1116000" y="6308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lose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250920" y="260280"/>
            <a:ext cx="781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How would the graph change i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Inductor had 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higher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inductance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?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8000"/>
                </a:solidFill>
                <a:latin typeface="Comic Sans MS"/>
              </a:rPr>
              <a:t>Inductor had </a:t>
            </a:r>
            <a:r>
              <a:rPr b="1" i="1" lang="en-NZ" sz="2400" spc="-1" strike="noStrike">
                <a:solidFill>
                  <a:srgbClr val="008000"/>
                </a:solidFill>
                <a:latin typeface="Comic Sans MS"/>
              </a:rPr>
              <a:t>higher</a:t>
            </a:r>
            <a:r>
              <a:rPr b="0" lang="en-NZ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i="1" lang="en-NZ" sz="2400" spc="-1" strike="noStrike">
                <a:solidFill>
                  <a:srgbClr val="008000"/>
                </a:solidFill>
                <a:latin typeface="Comic Sans MS"/>
              </a:rPr>
              <a:t>resistance</a:t>
            </a:r>
            <a:r>
              <a:rPr b="0" lang="en-NZ" sz="2400" spc="-1" strike="noStrike">
                <a:solidFill>
                  <a:srgbClr val="008000"/>
                </a:solidFill>
                <a:latin typeface="Comic Sans MS"/>
              </a:rPr>
              <a:t>  (be carefu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17"/>
          <p:cNvSpPr/>
          <p:nvPr/>
        </p:nvSpPr>
        <p:spPr>
          <a:xfrm rot="21440400">
            <a:off x="1834920" y="3470400"/>
            <a:ext cx="7850160" cy="2627280"/>
          </a:xfrm>
          <a:custGeom>
            <a:avLst/>
            <a:gdLst>
              <a:gd name="textAreaLeft" fmla="*/ 0 w 7850160"/>
              <a:gd name="textAreaRight" fmla="*/ 7850520 w 7850160"/>
              <a:gd name="textAreaTop" fmla="*/ 0 h 2627280"/>
              <a:gd name="textAreaBottom" fmla="*/ 2627640 h 2627280"/>
            </a:gdLst>
            <a:ahLst/>
            <a:rect l="textAreaLeft" t="textAreaTop" r="textAreaRight" b="textAreaBottom"/>
            <a:pathLst>
              <a:path w="1406" h="703">
                <a:moveTo>
                  <a:pt x="0" y="703"/>
                </a:moveTo>
                <a:cubicBezTo>
                  <a:pt x="64" y="464"/>
                  <a:pt x="129" y="226"/>
                  <a:pt x="363" y="113"/>
                </a:cubicBezTo>
                <a:cubicBezTo>
                  <a:pt x="597" y="0"/>
                  <a:pt x="1001" y="11"/>
                  <a:pt x="1406" y="2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20"/>
          <p:cNvSpPr/>
          <p:nvPr/>
        </p:nvSpPr>
        <p:spPr>
          <a:xfrm>
            <a:off x="1908000" y="4510080"/>
            <a:ext cx="3888000" cy="1727280"/>
          </a:xfrm>
          <a:custGeom>
            <a:avLst/>
            <a:gdLst>
              <a:gd name="textAreaLeft" fmla="*/ 0 w 3888000"/>
              <a:gd name="textAreaRight" fmla="*/ 3888360 w 388800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2449" h="1088">
                <a:moveTo>
                  <a:pt x="0" y="1088"/>
                </a:moveTo>
                <a:cubicBezTo>
                  <a:pt x="110" y="936"/>
                  <a:pt x="251" y="354"/>
                  <a:pt x="659" y="177"/>
                </a:cubicBezTo>
                <a:cubicBezTo>
                  <a:pt x="1067" y="0"/>
                  <a:pt x="2076" y="58"/>
                  <a:pt x="2449" y="27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21"/>
          <p:cNvSpPr/>
          <p:nvPr/>
        </p:nvSpPr>
        <p:spPr>
          <a:xfrm flipH="1">
            <a:off x="971280" y="422100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22"/>
          <p:cNvSpPr/>
          <p:nvPr/>
        </p:nvSpPr>
        <p:spPr>
          <a:xfrm flipV="1">
            <a:off x="2627280" y="422064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23"/>
          <p:cNvSpPr/>
          <p:nvPr/>
        </p:nvSpPr>
        <p:spPr>
          <a:xfrm>
            <a:off x="973080" y="5229360"/>
            <a:ext cx="1513080" cy="144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953" h="1">
                <a:moveTo>
                  <a:pt x="953" y="0"/>
                </a:moveTo>
                <a:lnTo>
                  <a:pt x="0" y="1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24"/>
          <p:cNvSpPr/>
          <p:nvPr/>
        </p:nvSpPr>
        <p:spPr>
          <a:xfrm>
            <a:off x="2482920" y="5229360"/>
            <a:ext cx="1440" cy="1020600"/>
          </a:xfrm>
          <a:custGeom>
            <a:avLst/>
            <a:gdLst>
              <a:gd name="textAreaLeft" fmla="*/ 0 w 1440"/>
              <a:gd name="textAreaRight" fmla="*/ 1800 w 1440"/>
              <a:gd name="textAreaTop" fmla="*/ 0 h 1020600"/>
              <a:gd name="textAreaBottom" fmla="*/ 1020960 h 1020600"/>
            </a:gdLst>
            <a:ahLst/>
            <a:rect l="textAreaLeft" t="textAreaTop" r="textAreaRight" b="textAreaBottom"/>
            <a:pathLst>
              <a:path w="1" h="643">
                <a:moveTo>
                  <a:pt x="0" y="64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25"/>
          <p:cNvSpPr/>
          <p:nvPr/>
        </p:nvSpPr>
        <p:spPr>
          <a:xfrm>
            <a:off x="973080" y="4222800"/>
            <a:ext cx="2349720" cy="14400"/>
          </a:xfrm>
          <a:custGeom>
            <a:avLst/>
            <a:gdLst>
              <a:gd name="textAreaLeft" fmla="*/ 0 w 2349720"/>
              <a:gd name="textAreaRight" fmla="*/ 2350080 w 23497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480" h="9">
                <a:moveTo>
                  <a:pt x="1480" y="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6"/>
          <p:cNvSpPr/>
          <p:nvPr/>
        </p:nvSpPr>
        <p:spPr>
          <a:xfrm flipV="1">
            <a:off x="3348000" y="422064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105600" y="6240600"/>
            <a:ext cx="11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2"/>
          <p:cNvSpPr/>
          <p:nvPr/>
        </p:nvSpPr>
        <p:spPr>
          <a:xfrm rot="7031400">
            <a:off x="4219200" y="1407960"/>
            <a:ext cx="1651320" cy="2774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3"/>
          <p:cNvSpPr/>
          <p:nvPr/>
        </p:nvSpPr>
        <p:spPr>
          <a:xfrm>
            <a:off x="2771640" y="486900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5"/>
          <p:cNvSpPr/>
          <p:nvPr/>
        </p:nvSpPr>
        <p:spPr>
          <a:xfrm>
            <a:off x="5797440" y="993600"/>
            <a:ext cx="503280" cy="3694320"/>
          </a:xfrm>
          <a:custGeom>
            <a:avLst/>
            <a:gdLst>
              <a:gd name="textAreaLeft" fmla="*/ 0 w 503280"/>
              <a:gd name="textAreaRight" fmla="*/ 503640 w 503280"/>
              <a:gd name="textAreaTop" fmla="*/ 0 h 3694320"/>
              <a:gd name="textAreaBottom" fmla="*/ 3694680 h 3694320"/>
            </a:gdLst>
            <a:ahLst/>
            <a:rect l="textAreaLeft" t="textAreaTop" r="textAreaRight" b="textAreaBottom"/>
            <a:pathLst>
              <a:path w="181" h="2327">
                <a:moveTo>
                  <a:pt x="0" y="1761"/>
                </a:moveTo>
                <a:cubicBezTo>
                  <a:pt x="11" y="2044"/>
                  <a:pt x="22" y="2327"/>
                  <a:pt x="45" y="2078"/>
                </a:cubicBezTo>
                <a:cubicBezTo>
                  <a:pt x="68" y="1829"/>
                  <a:pt x="113" y="528"/>
                  <a:pt x="136" y="264"/>
                </a:cubicBezTo>
                <a:cubicBezTo>
                  <a:pt x="159" y="0"/>
                  <a:pt x="170" y="245"/>
                  <a:pt x="181" y="4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6"/>
          <p:cNvSpPr/>
          <p:nvPr/>
        </p:nvSpPr>
        <p:spPr>
          <a:xfrm>
            <a:off x="6013440" y="981000"/>
            <a:ext cx="503280" cy="3694320"/>
          </a:xfrm>
          <a:custGeom>
            <a:avLst/>
            <a:gdLst>
              <a:gd name="textAreaLeft" fmla="*/ 0 w 503280"/>
              <a:gd name="textAreaRight" fmla="*/ 503640 w 503280"/>
              <a:gd name="textAreaTop" fmla="*/ 0 h 3694320"/>
              <a:gd name="textAreaBottom" fmla="*/ 3694680 h 3694320"/>
            </a:gdLst>
            <a:ahLst/>
            <a:rect l="textAreaLeft" t="textAreaTop" r="textAreaRight" b="textAreaBottom"/>
            <a:pathLst>
              <a:path w="181" h="2327">
                <a:moveTo>
                  <a:pt x="0" y="1761"/>
                </a:moveTo>
                <a:cubicBezTo>
                  <a:pt x="11" y="2044"/>
                  <a:pt x="22" y="2327"/>
                  <a:pt x="45" y="2078"/>
                </a:cubicBezTo>
                <a:cubicBezTo>
                  <a:pt x="68" y="1829"/>
                  <a:pt x="113" y="528"/>
                  <a:pt x="136" y="264"/>
                </a:cubicBezTo>
                <a:cubicBezTo>
                  <a:pt x="159" y="0"/>
                  <a:pt x="170" y="245"/>
                  <a:pt x="181" y="4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7"/>
          <p:cNvSpPr/>
          <p:nvPr/>
        </p:nvSpPr>
        <p:spPr>
          <a:xfrm>
            <a:off x="6229440" y="1030320"/>
            <a:ext cx="503280" cy="3693960"/>
          </a:xfrm>
          <a:custGeom>
            <a:avLst/>
            <a:gdLst>
              <a:gd name="textAreaLeft" fmla="*/ 0 w 503280"/>
              <a:gd name="textAreaRight" fmla="*/ 503640 w 503280"/>
              <a:gd name="textAreaTop" fmla="*/ 0 h 3693960"/>
              <a:gd name="textAreaBottom" fmla="*/ 3694320 h 3693960"/>
            </a:gdLst>
            <a:ahLst/>
            <a:rect l="textAreaLeft" t="textAreaTop" r="textAreaRight" b="textAreaBottom"/>
            <a:pathLst>
              <a:path w="181" h="2327">
                <a:moveTo>
                  <a:pt x="0" y="1761"/>
                </a:moveTo>
                <a:cubicBezTo>
                  <a:pt x="11" y="2044"/>
                  <a:pt x="22" y="2327"/>
                  <a:pt x="45" y="2078"/>
                </a:cubicBezTo>
                <a:cubicBezTo>
                  <a:pt x="68" y="1829"/>
                  <a:pt x="113" y="528"/>
                  <a:pt x="136" y="264"/>
                </a:cubicBezTo>
                <a:cubicBezTo>
                  <a:pt x="159" y="0"/>
                  <a:pt x="170" y="245"/>
                  <a:pt x="181" y="4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8"/>
          <p:cNvSpPr/>
          <p:nvPr/>
        </p:nvSpPr>
        <p:spPr>
          <a:xfrm>
            <a:off x="6445080" y="1030320"/>
            <a:ext cx="503280" cy="3693960"/>
          </a:xfrm>
          <a:custGeom>
            <a:avLst/>
            <a:gdLst>
              <a:gd name="textAreaLeft" fmla="*/ 0 w 503280"/>
              <a:gd name="textAreaRight" fmla="*/ 503640 w 503280"/>
              <a:gd name="textAreaTop" fmla="*/ 0 h 3693960"/>
              <a:gd name="textAreaBottom" fmla="*/ 3694320 h 3693960"/>
            </a:gdLst>
            <a:ahLst/>
            <a:rect l="textAreaLeft" t="textAreaTop" r="textAreaRight" b="textAreaBottom"/>
            <a:pathLst>
              <a:path w="181" h="2327">
                <a:moveTo>
                  <a:pt x="0" y="1761"/>
                </a:moveTo>
                <a:cubicBezTo>
                  <a:pt x="11" y="2044"/>
                  <a:pt x="22" y="2327"/>
                  <a:pt x="45" y="2078"/>
                </a:cubicBezTo>
                <a:cubicBezTo>
                  <a:pt x="68" y="1829"/>
                  <a:pt x="113" y="528"/>
                  <a:pt x="136" y="264"/>
                </a:cubicBezTo>
                <a:cubicBezTo>
                  <a:pt x="159" y="0"/>
                  <a:pt x="170" y="245"/>
                  <a:pt x="181" y="4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9"/>
          <p:cNvSpPr/>
          <p:nvPr/>
        </p:nvSpPr>
        <p:spPr>
          <a:xfrm>
            <a:off x="6659640" y="1030320"/>
            <a:ext cx="503280" cy="3693960"/>
          </a:xfrm>
          <a:custGeom>
            <a:avLst/>
            <a:gdLst>
              <a:gd name="textAreaLeft" fmla="*/ 0 w 503280"/>
              <a:gd name="textAreaRight" fmla="*/ 503640 w 503280"/>
              <a:gd name="textAreaTop" fmla="*/ 0 h 3693960"/>
              <a:gd name="textAreaBottom" fmla="*/ 3694320 h 3693960"/>
            </a:gdLst>
            <a:ahLst/>
            <a:rect l="textAreaLeft" t="textAreaTop" r="textAreaRight" b="textAreaBottom"/>
            <a:pathLst>
              <a:path w="181" h="2327">
                <a:moveTo>
                  <a:pt x="0" y="1761"/>
                </a:moveTo>
                <a:cubicBezTo>
                  <a:pt x="11" y="2044"/>
                  <a:pt x="22" y="2327"/>
                  <a:pt x="45" y="2078"/>
                </a:cubicBezTo>
                <a:cubicBezTo>
                  <a:pt x="68" y="1829"/>
                  <a:pt x="113" y="528"/>
                  <a:pt x="136" y="264"/>
                </a:cubicBezTo>
                <a:cubicBezTo>
                  <a:pt x="159" y="0"/>
                  <a:pt x="170" y="245"/>
                  <a:pt x="181" y="4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10"/>
          <p:cNvSpPr/>
          <p:nvPr/>
        </p:nvSpPr>
        <p:spPr>
          <a:xfrm>
            <a:off x="6924600" y="3860640"/>
            <a:ext cx="1392480" cy="103212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1032120"/>
              <a:gd name="textAreaBottom" fmla="*/ 1032480 h 1032120"/>
            </a:gdLst>
            <a:ahLst/>
            <a:rect l="textAreaLeft" t="textAreaTop" r="textAreaRight" b="textAreaBottom"/>
            <a:pathLst>
              <a:path w="877" h="650">
                <a:moveTo>
                  <a:pt x="15" y="0"/>
                </a:moveTo>
                <a:cubicBezTo>
                  <a:pt x="15" y="143"/>
                  <a:pt x="15" y="287"/>
                  <a:pt x="15" y="363"/>
                </a:cubicBezTo>
                <a:cubicBezTo>
                  <a:pt x="15" y="439"/>
                  <a:pt x="15" y="424"/>
                  <a:pt x="15" y="454"/>
                </a:cubicBezTo>
                <a:cubicBezTo>
                  <a:pt x="15" y="484"/>
                  <a:pt x="0" y="514"/>
                  <a:pt x="15" y="544"/>
                </a:cubicBezTo>
                <a:cubicBezTo>
                  <a:pt x="30" y="574"/>
                  <a:pt x="76" y="620"/>
                  <a:pt x="106" y="635"/>
                </a:cubicBezTo>
                <a:cubicBezTo>
                  <a:pt x="136" y="650"/>
                  <a:pt x="68" y="635"/>
                  <a:pt x="196" y="635"/>
                </a:cubicBezTo>
                <a:cubicBezTo>
                  <a:pt x="324" y="635"/>
                  <a:pt x="600" y="635"/>
                  <a:pt x="877" y="63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11"/>
          <p:cNvSpPr/>
          <p:nvPr/>
        </p:nvSpPr>
        <p:spPr>
          <a:xfrm>
            <a:off x="3203640" y="4508640"/>
            <a:ext cx="863640" cy="720720"/>
          </a:xfrm>
          <a:prstGeom prst="rightArrow">
            <a:avLst>
              <a:gd name="adj1" fmla="val 50000"/>
              <a:gd name="adj2" fmla="val 2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2"/>
          <p:cNvSpPr/>
          <p:nvPr/>
        </p:nvSpPr>
        <p:spPr>
          <a:xfrm rot="10800000">
            <a:off x="4030560" y="2412720"/>
            <a:ext cx="936720" cy="934920"/>
          </a:xfrm>
          <a:prstGeom prst="rightArrow">
            <a:avLst>
              <a:gd name="adj1" fmla="val 50000"/>
              <a:gd name="adj2" fmla="val 250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3"/>
          <p:cNvSpPr/>
          <p:nvPr/>
        </p:nvSpPr>
        <p:spPr>
          <a:xfrm rot="10800000">
            <a:off x="7888320" y="2755800"/>
            <a:ext cx="93672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14"/>
          <p:cNvSpPr/>
          <p:nvPr/>
        </p:nvSpPr>
        <p:spPr>
          <a:xfrm>
            <a:off x="5508720" y="5013360"/>
            <a:ext cx="1584360" cy="79200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0" y="260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Decreasing 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34920" y="98100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auses decreasing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magnetic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34920" y="167652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flux decre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-36360" y="23493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auses </a:t>
            </a:r>
            <a:r>
              <a:rPr b="1" i="1" lang="en-NZ" sz="2400" spc="-1" strike="noStrike">
                <a:solidFill>
                  <a:srgbClr val="00cc00"/>
                </a:solidFill>
                <a:latin typeface="Comic Sans MS"/>
              </a:rPr>
              <a:t>induced EM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2303640" y="5157720"/>
            <a:ext cx="428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Direction of EMF opposes current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chang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21"/>
          <p:cNvSpPr/>
          <p:nvPr/>
        </p:nvSpPr>
        <p:spPr>
          <a:xfrm>
            <a:off x="5003640" y="1257480"/>
            <a:ext cx="1081080" cy="3682800"/>
          </a:xfrm>
          <a:custGeom>
            <a:avLst/>
            <a:gdLst>
              <a:gd name="textAreaLeft" fmla="*/ 0 w 1081080"/>
              <a:gd name="textAreaRight" fmla="*/ 1081080 w 1081080"/>
              <a:gd name="textAreaTop" fmla="*/ 0 h 3682800"/>
              <a:gd name="textAreaBottom" fmla="*/ 3683160 h 3682800"/>
            </a:gdLst>
            <a:ahLst/>
            <a:rect l="textAreaLeft" t="textAreaTop" r="textAreaRight" b="textAreaBottom"/>
            <a:pathLst>
              <a:path w="681" h="2320">
                <a:moveTo>
                  <a:pt x="681" y="325"/>
                </a:moveTo>
                <a:cubicBezTo>
                  <a:pt x="669" y="162"/>
                  <a:pt x="658" y="0"/>
                  <a:pt x="635" y="7"/>
                </a:cubicBezTo>
                <a:cubicBezTo>
                  <a:pt x="612" y="14"/>
                  <a:pt x="582" y="37"/>
                  <a:pt x="544" y="370"/>
                </a:cubicBezTo>
                <a:cubicBezTo>
                  <a:pt x="506" y="703"/>
                  <a:pt x="499" y="1686"/>
                  <a:pt x="408" y="2003"/>
                </a:cubicBezTo>
                <a:cubicBezTo>
                  <a:pt x="317" y="2320"/>
                  <a:pt x="68" y="2230"/>
                  <a:pt x="0" y="227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4788000" y="11592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Comic Sans MS"/>
              </a:rPr>
              <a:t>Current Decrea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0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2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4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738360" y="325080"/>
            <a:ext cx="77724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his induced EMF (or back EMF) opposes the decrease in current, so the current drop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SLOWL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957240" y="2662200"/>
            <a:ext cx="6167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Comic Sans MS"/>
              </a:rPr>
              <a:t>This is called Self Induct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539640" y="3684600"/>
            <a:ext cx="813600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Key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nductors oppose a changing current but have no effect on constant cur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n.b. a real inductor has re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40"/>
          <p:cNvGrpSpPr/>
          <p:nvPr/>
        </p:nvGrpSpPr>
        <p:grpSpPr>
          <a:xfrm>
            <a:off x="2195280" y="115920"/>
            <a:ext cx="2808360" cy="2592000"/>
            <a:chOff x="2195280" y="115920"/>
            <a:chExt cx="2808360" cy="2592000"/>
          </a:xfrm>
        </p:grpSpPr>
        <p:sp>
          <p:nvSpPr>
            <p:cNvPr id="176" name="Line 4"/>
            <p:cNvSpPr/>
            <p:nvPr/>
          </p:nvSpPr>
          <p:spPr>
            <a:xfrm>
              <a:off x="3546720" y="493200"/>
              <a:ext cx="0" cy="27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5"/>
            <p:cNvSpPr/>
            <p:nvPr/>
          </p:nvSpPr>
          <p:spPr>
            <a:xfrm>
              <a:off x="3651120" y="115920"/>
              <a:ext cx="0" cy="113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6"/>
            <p:cNvSpPr/>
            <p:nvPr/>
          </p:nvSpPr>
          <p:spPr>
            <a:xfrm flipH="1">
              <a:off x="2195280" y="655200"/>
              <a:ext cx="135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7"/>
            <p:cNvSpPr/>
            <p:nvPr/>
          </p:nvSpPr>
          <p:spPr>
            <a:xfrm>
              <a:off x="2195640" y="655200"/>
              <a:ext cx="0" cy="18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Group 33"/>
            <p:cNvGrpSpPr/>
            <p:nvPr/>
          </p:nvGrpSpPr>
          <p:grpSpPr>
            <a:xfrm>
              <a:off x="2976120" y="2167560"/>
              <a:ext cx="1040760" cy="540360"/>
              <a:chOff x="2976120" y="2167560"/>
              <a:chExt cx="1040760" cy="540360"/>
            </a:xfrm>
          </p:grpSpPr>
          <p:sp>
            <p:nvSpPr>
              <p:cNvPr id="181" name="Freeform 25"/>
              <p:cNvSpPr/>
              <p:nvPr/>
            </p:nvSpPr>
            <p:spPr>
              <a:xfrm>
                <a:off x="2976120" y="2167560"/>
                <a:ext cx="169920" cy="40536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363" h="817">
                    <a:moveTo>
                      <a:pt x="0" y="817"/>
                    </a:moveTo>
                    <a:cubicBezTo>
                      <a:pt x="61" y="408"/>
                      <a:pt x="122" y="0"/>
                      <a:pt x="182" y="0"/>
                    </a:cubicBezTo>
                    <a:cubicBezTo>
                      <a:pt x="242" y="0"/>
                      <a:pt x="302" y="408"/>
                      <a:pt x="363" y="81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Freeform 26"/>
              <p:cNvSpPr/>
              <p:nvPr/>
            </p:nvSpPr>
            <p:spPr>
              <a:xfrm>
                <a:off x="3146040" y="2167560"/>
                <a:ext cx="169920" cy="40536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363" h="817">
                    <a:moveTo>
                      <a:pt x="0" y="817"/>
                    </a:moveTo>
                    <a:cubicBezTo>
                      <a:pt x="61" y="408"/>
                      <a:pt x="122" y="0"/>
                      <a:pt x="182" y="0"/>
                    </a:cubicBezTo>
                    <a:cubicBezTo>
                      <a:pt x="242" y="0"/>
                      <a:pt x="302" y="408"/>
                      <a:pt x="363" y="81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27"/>
              <p:cNvSpPr/>
              <p:nvPr/>
            </p:nvSpPr>
            <p:spPr>
              <a:xfrm>
                <a:off x="3315960" y="2167560"/>
                <a:ext cx="169920" cy="40536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363" h="817">
                    <a:moveTo>
                      <a:pt x="0" y="817"/>
                    </a:moveTo>
                    <a:cubicBezTo>
                      <a:pt x="61" y="408"/>
                      <a:pt x="122" y="0"/>
                      <a:pt x="182" y="0"/>
                    </a:cubicBezTo>
                    <a:cubicBezTo>
                      <a:pt x="242" y="0"/>
                      <a:pt x="302" y="408"/>
                      <a:pt x="363" y="81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Freeform 28"/>
              <p:cNvSpPr/>
              <p:nvPr/>
            </p:nvSpPr>
            <p:spPr>
              <a:xfrm>
                <a:off x="3485880" y="2167560"/>
                <a:ext cx="169920" cy="40536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363" h="817">
                    <a:moveTo>
                      <a:pt x="0" y="817"/>
                    </a:moveTo>
                    <a:cubicBezTo>
                      <a:pt x="61" y="408"/>
                      <a:pt x="122" y="0"/>
                      <a:pt x="182" y="0"/>
                    </a:cubicBezTo>
                    <a:cubicBezTo>
                      <a:pt x="242" y="0"/>
                      <a:pt x="302" y="408"/>
                      <a:pt x="363" y="81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Freeform 29"/>
              <p:cNvSpPr/>
              <p:nvPr/>
            </p:nvSpPr>
            <p:spPr>
              <a:xfrm>
                <a:off x="3655800" y="2167560"/>
                <a:ext cx="169920" cy="40536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363" h="817">
                    <a:moveTo>
                      <a:pt x="0" y="817"/>
                    </a:moveTo>
                    <a:cubicBezTo>
                      <a:pt x="61" y="408"/>
                      <a:pt x="122" y="0"/>
                      <a:pt x="182" y="0"/>
                    </a:cubicBezTo>
                    <a:cubicBezTo>
                      <a:pt x="242" y="0"/>
                      <a:pt x="302" y="408"/>
                      <a:pt x="363" y="81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Freeform 30"/>
              <p:cNvSpPr/>
              <p:nvPr/>
            </p:nvSpPr>
            <p:spPr>
              <a:xfrm>
                <a:off x="3825720" y="2167560"/>
                <a:ext cx="169920" cy="40536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363" h="817">
                    <a:moveTo>
                      <a:pt x="0" y="817"/>
                    </a:moveTo>
                    <a:cubicBezTo>
                      <a:pt x="61" y="408"/>
                      <a:pt x="122" y="0"/>
                      <a:pt x="182" y="0"/>
                    </a:cubicBezTo>
                    <a:cubicBezTo>
                      <a:pt x="242" y="0"/>
                      <a:pt x="302" y="408"/>
                      <a:pt x="363" y="81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31"/>
              <p:cNvSpPr/>
              <p:nvPr/>
            </p:nvSpPr>
            <p:spPr>
              <a:xfrm>
                <a:off x="2976120" y="2617560"/>
                <a:ext cx="1040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32"/>
              <p:cNvSpPr/>
              <p:nvPr/>
            </p:nvSpPr>
            <p:spPr>
              <a:xfrm>
                <a:off x="2976120" y="2707920"/>
                <a:ext cx="1040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Line 34"/>
            <p:cNvSpPr/>
            <p:nvPr/>
          </p:nvSpPr>
          <p:spPr>
            <a:xfrm flipH="1">
              <a:off x="3651840" y="655200"/>
              <a:ext cx="135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35"/>
            <p:cNvSpPr/>
            <p:nvPr/>
          </p:nvSpPr>
          <p:spPr>
            <a:xfrm>
              <a:off x="5003640" y="655200"/>
              <a:ext cx="0" cy="18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36"/>
            <p:cNvSpPr/>
            <p:nvPr/>
          </p:nvSpPr>
          <p:spPr>
            <a:xfrm>
              <a:off x="2195640" y="2546280"/>
              <a:ext cx="78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37"/>
            <p:cNvSpPr/>
            <p:nvPr/>
          </p:nvSpPr>
          <p:spPr>
            <a:xfrm>
              <a:off x="4015440" y="2546280"/>
              <a:ext cx="36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38"/>
            <p:cNvSpPr/>
            <p:nvPr/>
          </p:nvSpPr>
          <p:spPr>
            <a:xfrm flipV="1">
              <a:off x="4379040" y="2221920"/>
              <a:ext cx="208440" cy="32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39"/>
            <p:cNvSpPr/>
            <p:nvPr/>
          </p:nvSpPr>
          <p:spPr>
            <a:xfrm>
              <a:off x="4638960" y="2546280"/>
              <a:ext cx="364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Text Box 41"/>
          <p:cNvSpPr/>
          <p:nvPr/>
        </p:nvSpPr>
        <p:spPr>
          <a:xfrm>
            <a:off x="179280" y="299736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When the switch opens, the current drops to zero </a:t>
            </a:r>
            <a:r>
              <a:rPr b="1" i="1" lang="en-NZ" sz="3200" spc="-1" strike="noStrike">
                <a:solidFill>
                  <a:srgbClr val="ff0000"/>
                </a:solidFill>
                <a:latin typeface="Comic Sans MS"/>
              </a:rPr>
              <a:t>rapi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2"/>
          <p:cNvSpPr/>
          <p:nvPr/>
        </p:nvSpPr>
        <p:spPr>
          <a:xfrm>
            <a:off x="179280" y="41497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ff"/>
                </a:solidFill>
                <a:latin typeface="Comic Sans MS"/>
              </a:rPr>
              <a:t>Causes a </a:t>
            </a:r>
            <a:r>
              <a:rPr b="1" i="1" lang="en-NZ" sz="3200" spc="-1" strike="noStrike">
                <a:solidFill>
                  <a:srgbClr val="0000ff"/>
                </a:solidFill>
                <a:latin typeface="Comic Sans MS"/>
              </a:rPr>
              <a:t>large flux change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3"/>
          <p:cNvSpPr/>
          <p:nvPr/>
        </p:nvSpPr>
        <p:spPr>
          <a:xfrm>
            <a:off x="71280" y="49417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Induces a very </a:t>
            </a:r>
            <a:r>
              <a:rPr b="1" i="1" lang="en-NZ" sz="3200" spc="-1" strike="noStrike">
                <a:solidFill>
                  <a:srgbClr val="ff0000"/>
                </a:solidFill>
                <a:latin typeface="Comic Sans MS"/>
              </a:rPr>
              <a:t>large EM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4"/>
          <p:cNvSpPr/>
          <p:nvPr/>
        </p:nvSpPr>
        <p:spPr>
          <a:xfrm>
            <a:off x="250920" y="5729400"/>
            <a:ext cx="753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ff"/>
                </a:solidFill>
                <a:latin typeface="Comic Sans MS"/>
              </a:rPr>
              <a:t>Causes a </a:t>
            </a:r>
            <a:r>
              <a:rPr b="1" i="1" lang="en-NZ" sz="3200" spc="-1" strike="noStrike">
                <a:solidFill>
                  <a:srgbClr val="0000ff"/>
                </a:solidFill>
                <a:latin typeface="Comic Sans MS"/>
              </a:rPr>
              <a:t>spark across the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high_voltage_disconnect_switch.mpe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06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9" dur="1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Energy stored in an indu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19120" y="1712520"/>
            <a:ext cx="84708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urrent in an inductor produces a  magnetic field, therefore energy is stored in the magnetic fiel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: self inductance in henries (H)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: current in amps (A)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2"/>
              <p:cNvSpPr txBox="1"/>
              <p:nvPr/>
            </p:nvSpPr>
            <p:spPr>
              <a:xfrm>
                <a:off x="3951360" y="2990880"/>
                <a:ext cx="15652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4d4d4d"/>
                </a:solidFill>
                <a:uFillTx/>
                <a:latin typeface="Comic Sans MS"/>
                <a:hlinkClick r:id="rId1"/>
              </a:rPr>
              <a:t>Inductor rad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Self Induc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785600"/>
            <a:ext cx="8642160" cy="8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A coil can induce a voltage in itself !!!?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Picture 28" descr=""/>
          <p:cNvPicPr/>
          <p:nvPr/>
        </p:nvPicPr>
        <p:blipFill>
          <a:blip r:embed="rId1"/>
          <a:stretch/>
        </p:blipFill>
        <p:spPr>
          <a:xfrm>
            <a:off x="2235240" y="2443320"/>
            <a:ext cx="496584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54080" y="471240"/>
            <a:ext cx="5842080" cy="23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Example: As shown, the coil has an inductance of 0.20H. When the switch S is open, the current falls from 5.0A to zero in 1.0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263520" y="2990880"/>
            <a:ext cx="8580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a. What is the induced volta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b. What  is the resistance, R, of the co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. What is the energy stored when S is clo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d. What is the time constant of the coi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5959440" y="544680"/>
            <a:ext cx="293364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9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ΔI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3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H, </m:t>
                        </m:r>
                        <m:r>
                          <m:t xml:space="preserve">Δ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s, V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V, 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957240" y="654120"/>
                <a:ext cx="61009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H, </m:t>
                    </m:r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s, V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0V, 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6"/>
              <p:cNvSpPr txBox="1"/>
              <p:nvPr/>
            </p:nvSpPr>
            <p:spPr>
              <a:xfrm>
                <a:off x="852480" y="2406600"/>
                <a:ext cx="388944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7"/>
              <p:cNvSpPr txBox="1"/>
              <p:nvPr/>
            </p:nvSpPr>
            <p:spPr>
              <a:xfrm>
                <a:off x="884160" y="3355920"/>
                <a:ext cx="57754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8"/>
              <p:cNvSpPr txBox="1"/>
              <p:nvPr/>
            </p:nvSpPr>
            <p:spPr>
              <a:xfrm>
                <a:off x="993600" y="4232160"/>
                <a:ext cx="395640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8"/>
              <p:cNvSpPr txBox="1"/>
              <p:nvPr/>
            </p:nvSpPr>
            <p:spPr>
              <a:xfrm>
                <a:off x="847800" y="1639800"/>
                <a:ext cx="525312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ΔI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5667480" y="1749600"/>
            <a:ext cx="2981160" cy="20192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4"/>
          <p:cNvSpPr/>
          <p:nvPr/>
        </p:nvSpPr>
        <p:spPr>
          <a:xfrm>
            <a:off x="628560" y="727200"/>
            <a:ext cx="69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Ex. (a) What is the steady current flowing when the switch has been closed for a long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Box 5"/>
          <p:cNvSpPr/>
          <p:nvPr/>
        </p:nvSpPr>
        <p:spPr>
          <a:xfrm>
            <a:off x="628560" y="1530360"/>
            <a:ext cx="4783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b). What is the voltage across the inductor at the instant the witch is clo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c) find the time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d)How long does it take for the current to reach a value of 0.021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360" y="654120"/>
            <a:ext cx="777240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Mutual Inductance</a:t>
            </a:r>
            <a:br>
              <a:rPr sz="4000"/>
            </a:br>
            <a:r>
              <a:rPr b="0" lang="en-NZ" sz="4000" spc="-1" strike="noStrike" u="sng">
                <a:solidFill>
                  <a:srgbClr val="4d4d4d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NZ" sz="4000" spc="-1" strike="noStrike" u="sng">
                <a:solidFill>
                  <a:srgbClr val="4d4d4d"/>
                </a:solidFill>
                <a:uFillTx/>
                <a:latin typeface="Comic Sans MS"/>
                <a:hlinkClick r:id="rId2"/>
              </a:rPr>
              <a:t>phet.colorado.edu/web-pages/simulations-base.htm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01120" y="549360"/>
            <a:ext cx="864252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Predict what happens when the switch clos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28" descr=""/>
          <p:cNvPicPr/>
          <p:nvPr/>
        </p:nvPicPr>
        <p:blipFill>
          <a:blip r:embed="rId1"/>
          <a:stretch/>
        </p:blipFill>
        <p:spPr>
          <a:xfrm>
            <a:off x="1870200" y="1968480"/>
            <a:ext cx="53308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01120" y="549360"/>
            <a:ext cx="8642520" cy="14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What happens when the switch open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1"/>
          <a:stretch/>
        </p:blipFill>
        <p:spPr>
          <a:xfrm>
            <a:off x="1906560" y="1384200"/>
            <a:ext cx="467028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0"/>
          <p:cNvSpPr/>
          <p:nvPr/>
        </p:nvSpPr>
        <p:spPr>
          <a:xfrm>
            <a:off x="324000" y="3903840"/>
            <a:ext cx="798804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An inductor is designed to oppose a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changing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755640" y="5108400"/>
            <a:ext cx="77724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his is because 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it can induce an EMF in itself. This is called </a:t>
            </a:r>
            <a:r>
              <a:rPr b="1" i="1" lang="en-NZ" sz="3200" spc="-1" strike="noStrike">
                <a:solidFill>
                  <a:srgbClr val="ff0000"/>
                </a:solidFill>
                <a:latin typeface="Comic Sans MS"/>
              </a:rPr>
              <a:t>Self Induc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1" descr=""/>
          <p:cNvPicPr/>
          <p:nvPr/>
        </p:nvPicPr>
        <p:blipFill>
          <a:blip r:embed="rId1"/>
          <a:stretch/>
        </p:blipFill>
        <p:spPr>
          <a:xfrm>
            <a:off x="1724040" y="252360"/>
            <a:ext cx="445464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val 2"/>
          <p:cNvSpPr/>
          <p:nvPr/>
        </p:nvSpPr>
        <p:spPr>
          <a:xfrm rot="7031400">
            <a:off x="4219560" y="1426680"/>
            <a:ext cx="1650960" cy="2774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"/>
          <p:cNvSpPr/>
          <p:nvPr/>
        </p:nvSpPr>
        <p:spPr>
          <a:xfrm>
            <a:off x="2771640" y="486900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5"/>
          <p:cNvSpPr/>
          <p:nvPr/>
        </p:nvSpPr>
        <p:spPr>
          <a:xfrm>
            <a:off x="5797440" y="1012680"/>
            <a:ext cx="503280" cy="3694320"/>
          </a:xfrm>
          <a:custGeom>
            <a:avLst/>
            <a:gdLst>
              <a:gd name="textAreaLeft" fmla="*/ 0 w 503280"/>
              <a:gd name="textAreaRight" fmla="*/ 503640 w 503280"/>
              <a:gd name="textAreaTop" fmla="*/ 0 h 3694320"/>
              <a:gd name="textAreaBottom" fmla="*/ 3694680 h 3694320"/>
            </a:gdLst>
            <a:ahLst/>
            <a:rect l="textAreaLeft" t="textAreaTop" r="textAreaRight" b="textAreaBottom"/>
            <a:pathLst>
              <a:path w="181" h="2327">
                <a:moveTo>
                  <a:pt x="0" y="1761"/>
                </a:moveTo>
                <a:cubicBezTo>
                  <a:pt x="11" y="2044"/>
                  <a:pt x="22" y="2327"/>
                  <a:pt x="45" y="2078"/>
                </a:cubicBezTo>
                <a:cubicBezTo>
                  <a:pt x="68" y="1829"/>
                  <a:pt x="113" y="528"/>
                  <a:pt x="136" y="264"/>
                </a:cubicBezTo>
                <a:cubicBezTo>
                  <a:pt x="159" y="0"/>
                  <a:pt x="170" y="245"/>
                  <a:pt x="181" y="4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reeform 6"/>
          <p:cNvSpPr/>
          <p:nvPr/>
        </p:nvSpPr>
        <p:spPr>
          <a:xfrm>
            <a:off x="6040440" y="1012680"/>
            <a:ext cx="503280" cy="3694320"/>
          </a:xfrm>
          <a:custGeom>
            <a:avLst/>
            <a:gdLst>
              <a:gd name="textAreaLeft" fmla="*/ 0 w 503280"/>
              <a:gd name="textAreaRight" fmla="*/ 503640 w 503280"/>
              <a:gd name="textAreaTop" fmla="*/ 0 h 3694320"/>
              <a:gd name="textAreaBottom" fmla="*/ 3694680 h 3694320"/>
            </a:gdLst>
            <a:ahLst/>
            <a:rect l="textAreaLeft" t="textAreaTop" r="textAreaRight" b="textAreaBottom"/>
            <a:pathLst>
              <a:path w="181" h="2327">
                <a:moveTo>
                  <a:pt x="0" y="1761"/>
                </a:moveTo>
                <a:cubicBezTo>
                  <a:pt x="11" y="2044"/>
                  <a:pt x="22" y="2327"/>
                  <a:pt x="45" y="2078"/>
                </a:cubicBezTo>
                <a:cubicBezTo>
                  <a:pt x="68" y="1829"/>
                  <a:pt x="113" y="528"/>
                  <a:pt x="136" y="264"/>
                </a:cubicBezTo>
                <a:cubicBezTo>
                  <a:pt x="159" y="0"/>
                  <a:pt x="170" y="245"/>
                  <a:pt x="181" y="4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7"/>
          <p:cNvSpPr/>
          <p:nvPr/>
        </p:nvSpPr>
        <p:spPr>
          <a:xfrm>
            <a:off x="6229440" y="1030320"/>
            <a:ext cx="503280" cy="3693960"/>
          </a:xfrm>
          <a:custGeom>
            <a:avLst/>
            <a:gdLst>
              <a:gd name="textAreaLeft" fmla="*/ 0 w 503280"/>
              <a:gd name="textAreaRight" fmla="*/ 503640 w 503280"/>
              <a:gd name="textAreaTop" fmla="*/ 0 h 3693960"/>
              <a:gd name="textAreaBottom" fmla="*/ 3694320 h 3693960"/>
            </a:gdLst>
            <a:ahLst/>
            <a:rect l="textAreaLeft" t="textAreaTop" r="textAreaRight" b="textAreaBottom"/>
            <a:pathLst>
              <a:path w="181" h="2327">
                <a:moveTo>
                  <a:pt x="0" y="1761"/>
                </a:moveTo>
                <a:cubicBezTo>
                  <a:pt x="11" y="2044"/>
                  <a:pt x="22" y="2327"/>
                  <a:pt x="45" y="2078"/>
                </a:cubicBezTo>
                <a:cubicBezTo>
                  <a:pt x="68" y="1829"/>
                  <a:pt x="113" y="528"/>
                  <a:pt x="136" y="264"/>
                </a:cubicBezTo>
                <a:cubicBezTo>
                  <a:pt x="159" y="0"/>
                  <a:pt x="170" y="245"/>
                  <a:pt x="181" y="4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8"/>
          <p:cNvSpPr/>
          <p:nvPr/>
        </p:nvSpPr>
        <p:spPr>
          <a:xfrm>
            <a:off x="6445080" y="1030320"/>
            <a:ext cx="503280" cy="3693960"/>
          </a:xfrm>
          <a:custGeom>
            <a:avLst/>
            <a:gdLst>
              <a:gd name="textAreaLeft" fmla="*/ 0 w 503280"/>
              <a:gd name="textAreaRight" fmla="*/ 503640 w 503280"/>
              <a:gd name="textAreaTop" fmla="*/ 0 h 3693960"/>
              <a:gd name="textAreaBottom" fmla="*/ 3694320 h 3693960"/>
            </a:gdLst>
            <a:ahLst/>
            <a:rect l="textAreaLeft" t="textAreaTop" r="textAreaRight" b="textAreaBottom"/>
            <a:pathLst>
              <a:path w="181" h="2327">
                <a:moveTo>
                  <a:pt x="0" y="1761"/>
                </a:moveTo>
                <a:cubicBezTo>
                  <a:pt x="11" y="2044"/>
                  <a:pt x="22" y="2327"/>
                  <a:pt x="45" y="2078"/>
                </a:cubicBezTo>
                <a:cubicBezTo>
                  <a:pt x="68" y="1829"/>
                  <a:pt x="113" y="528"/>
                  <a:pt x="136" y="264"/>
                </a:cubicBezTo>
                <a:cubicBezTo>
                  <a:pt x="159" y="0"/>
                  <a:pt x="170" y="245"/>
                  <a:pt x="181" y="4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eform 9"/>
          <p:cNvSpPr/>
          <p:nvPr/>
        </p:nvSpPr>
        <p:spPr>
          <a:xfrm>
            <a:off x="6659640" y="1030320"/>
            <a:ext cx="503280" cy="3693960"/>
          </a:xfrm>
          <a:custGeom>
            <a:avLst/>
            <a:gdLst>
              <a:gd name="textAreaLeft" fmla="*/ 0 w 503280"/>
              <a:gd name="textAreaRight" fmla="*/ 503640 w 503280"/>
              <a:gd name="textAreaTop" fmla="*/ 0 h 3693960"/>
              <a:gd name="textAreaBottom" fmla="*/ 3694320 h 3693960"/>
            </a:gdLst>
            <a:ahLst/>
            <a:rect l="textAreaLeft" t="textAreaTop" r="textAreaRight" b="textAreaBottom"/>
            <a:pathLst>
              <a:path w="181" h="2327">
                <a:moveTo>
                  <a:pt x="0" y="1761"/>
                </a:moveTo>
                <a:cubicBezTo>
                  <a:pt x="11" y="2044"/>
                  <a:pt x="22" y="2327"/>
                  <a:pt x="45" y="2078"/>
                </a:cubicBezTo>
                <a:cubicBezTo>
                  <a:pt x="68" y="1829"/>
                  <a:pt x="113" y="528"/>
                  <a:pt x="136" y="264"/>
                </a:cubicBezTo>
                <a:cubicBezTo>
                  <a:pt x="159" y="0"/>
                  <a:pt x="170" y="245"/>
                  <a:pt x="181" y="4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10"/>
          <p:cNvSpPr/>
          <p:nvPr/>
        </p:nvSpPr>
        <p:spPr>
          <a:xfrm>
            <a:off x="6924600" y="3860640"/>
            <a:ext cx="1392480" cy="103212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1032120"/>
              <a:gd name="textAreaBottom" fmla="*/ 1032480 h 1032120"/>
            </a:gdLst>
            <a:ahLst/>
            <a:rect l="textAreaLeft" t="textAreaTop" r="textAreaRight" b="textAreaBottom"/>
            <a:pathLst>
              <a:path w="877" h="650">
                <a:moveTo>
                  <a:pt x="15" y="0"/>
                </a:moveTo>
                <a:cubicBezTo>
                  <a:pt x="15" y="143"/>
                  <a:pt x="15" y="287"/>
                  <a:pt x="15" y="363"/>
                </a:cubicBezTo>
                <a:cubicBezTo>
                  <a:pt x="15" y="439"/>
                  <a:pt x="15" y="424"/>
                  <a:pt x="15" y="454"/>
                </a:cubicBezTo>
                <a:cubicBezTo>
                  <a:pt x="15" y="484"/>
                  <a:pt x="0" y="514"/>
                  <a:pt x="15" y="544"/>
                </a:cubicBezTo>
                <a:cubicBezTo>
                  <a:pt x="30" y="574"/>
                  <a:pt x="76" y="620"/>
                  <a:pt x="106" y="635"/>
                </a:cubicBezTo>
                <a:cubicBezTo>
                  <a:pt x="136" y="650"/>
                  <a:pt x="68" y="635"/>
                  <a:pt x="196" y="635"/>
                </a:cubicBezTo>
                <a:cubicBezTo>
                  <a:pt x="324" y="635"/>
                  <a:pt x="600" y="635"/>
                  <a:pt x="877" y="63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1"/>
          <p:cNvSpPr/>
          <p:nvPr/>
        </p:nvSpPr>
        <p:spPr>
          <a:xfrm>
            <a:off x="3348000" y="4724280"/>
            <a:ext cx="432000" cy="289080"/>
          </a:xfrm>
          <a:prstGeom prst="rightArrow">
            <a:avLst>
              <a:gd name="adj1" fmla="val 50000"/>
              <a:gd name="adj2" fmla="val 373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2"/>
          <p:cNvSpPr/>
          <p:nvPr/>
        </p:nvSpPr>
        <p:spPr>
          <a:xfrm rot="10800000">
            <a:off x="4284720" y="2491920"/>
            <a:ext cx="792000" cy="574920"/>
          </a:xfrm>
          <a:prstGeom prst="rightArrow">
            <a:avLst>
              <a:gd name="adj1" fmla="val 50000"/>
              <a:gd name="adj2" fmla="val 344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7912080" y="2681280"/>
            <a:ext cx="50472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4"/>
          <p:cNvSpPr/>
          <p:nvPr/>
        </p:nvSpPr>
        <p:spPr>
          <a:xfrm rot="10800000">
            <a:off x="5508360" y="5013360"/>
            <a:ext cx="1584360" cy="79200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144360" y="260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69840" y="98100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auses increasing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magnetic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34920" y="1676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auses increasing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flux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hrough c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34920" y="23493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auses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induced EM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250920" y="5589720"/>
            <a:ext cx="44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Direction of EMF opposes current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1"/>
          <p:cNvSpPr/>
          <p:nvPr/>
        </p:nvSpPr>
        <p:spPr>
          <a:xfrm>
            <a:off x="1835280" y="4221000"/>
            <a:ext cx="30607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Increasing </a:t>
            </a: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5219640" y="5877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8000"/>
                </a:solidFill>
                <a:latin typeface="Comic Sans MS"/>
              </a:rPr>
              <a:t>Induced EM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reeform 24"/>
          <p:cNvSpPr/>
          <p:nvPr/>
        </p:nvSpPr>
        <p:spPr>
          <a:xfrm>
            <a:off x="5003640" y="1257480"/>
            <a:ext cx="1081080" cy="3682800"/>
          </a:xfrm>
          <a:custGeom>
            <a:avLst/>
            <a:gdLst>
              <a:gd name="textAreaLeft" fmla="*/ 0 w 1081080"/>
              <a:gd name="textAreaRight" fmla="*/ 1081080 w 1081080"/>
              <a:gd name="textAreaTop" fmla="*/ 0 h 3682800"/>
              <a:gd name="textAreaBottom" fmla="*/ 3683160 h 3682800"/>
            </a:gdLst>
            <a:ahLst/>
            <a:rect l="textAreaLeft" t="textAreaTop" r="textAreaRight" b="textAreaBottom"/>
            <a:pathLst>
              <a:path w="681" h="2320">
                <a:moveTo>
                  <a:pt x="681" y="325"/>
                </a:moveTo>
                <a:cubicBezTo>
                  <a:pt x="669" y="162"/>
                  <a:pt x="658" y="0"/>
                  <a:pt x="635" y="7"/>
                </a:cubicBezTo>
                <a:cubicBezTo>
                  <a:pt x="612" y="14"/>
                  <a:pt x="582" y="37"/>
                  <a:pt x="544" y="370"/>
                </a:cubicBezTo>
                <a:cubicBezTo>
                  <a:pt x="506" y="703"/>
                  <a:pt x="499" y="1686"/>
                  <a:pt x="408" y="2003"/>
                </a:cubicBezTo>
                <a:cubicBezTo>
                  <a:pt x="317" y="2320"/>
                  <a:pt x="68" y="2230"/>
                  <a:pt x="0" y="227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4788000" y="18900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Comic Sans MS"/>
              </a:rPr>
              <a:t>Current Increa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6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Self Induc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440" y="1456920"/>
            <a:ext cx="82821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 coil can induce a voltage in itself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L is called the </a:t>
            </a:r>
            <a:r>
              <a:rPr b="1" i="1" lang="en-NZ" sz="2800" spc="-1" strike="noStrike">
                <a:solidFill>
                  <a:srgbClr val="ff0000"/>
                </a:solidFill>
                <a:latin typeface="Comic Sans MS"/>
              </a:rPr>
              <a:t>self induct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09680" y="4122720"/>
            <a:ext cx="79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Self Inductance (L) is measured in henries 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957240" y="2114640"/>
                <a:ext cx="524340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MF in coil 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φ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ΔI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TextBox 7"/>
          <p:cNvSpPr/>
          <p:nvPr/>
        </p:nvSpPr>
        <p:spPr>
          <a:xfrm>
            <a:off x="299880" y="5145120"/>
            <a:ext cx="54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ircuit Symbol for induc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5448240" y="5108400"/>
            <a:ext cx="1971720" cy="64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9"/>
          <p:cNvSpPr/>
          <p:nvPr/>
        </p:nvSpPr>
        <p:spPr>
          <a:xfrm>
            <a:off x="336600" y="5826240"/>
            <a:ext cx="54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onsidering resista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4718160" y="5875200"/>
            <a:ext cx="246672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his induced EMF (or back EMF)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opposes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increase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in current, so the current rise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SLOWL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20720" y="3213000"/>
            <a:ext cx="536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Comic Sans MS"/>
              </a:rPr>
              <a:t>This is called Self Induct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684360" y="4230720"/>
            <a:ext cx="687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Comic Sans MS"/>
              </a:rPr>
              <a:t>(The coil induces an EMF in itself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3"/>
          <p:cNvGrpSpPr/>
          <p:nvPr/>
        </p:nvGrpSpPr>
        <p:grpSpPr>
          <a:xfrm>
            <a:off x="971640" y="3068280"/>
            <a:ext cx="6408360" cy="3168720"/>
            <a:chOff x="971640" y="3068280"/>
            <a:chExt cx="6408360" cy="3168720"/>
          </a:xfrm>
        </p:grpSpPr>
        <p:sp>
          <p:nvSpPr>
            <p:cNvPr id="89" name="Line 30"/>
            <p:cNvSpPr/>
            <p:nvPr/>
          </p:nvSpPr>
          <p:spPr>
            <a:xfrm flipV="1">
              <a:off x="971640" y="3068280"/>
              <a:ext cx="0" cy="31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31"/>
            <p:cNvSpPr/>
            <p:nvPr/>
          </p:nvSpPr>
          <p:spPr>
            <a:xfrm>
              <a:off x="971640" y="6237000"/>
              <a:ext cx="64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Freeform 32"/>
          <p:cNvSpPr/>
          <p:nvPr/>
        </p:nvSpPr>
        <p:spPr>
          <a:xfrm rot="21440400">
            <a:off x="900000" y="3357720"/>
            <a:ext cx="5113440" cy="2808000"/>
          </a:xfrm>
          <a:custGeom>
            <a:avLst/>
            <a:gdLst>
              <a:gd name="textAreaLeft" fmla="*/ 0 w 5113440"/>
              <a:gd name="textAreaRight" fmla="*/ 5113800 w 5113440"/>
              <a:gd name="textAreaTop" fmla="*/ 0 h 2808000"/>
              <a:gd name="textAreaBottom" fmla="*/ 2808000 h 2808000"/>
            </a:gdLst>
            <a:ahLst/>
            <a:rect l="textAreaLeft" t="textAreaTop" r="textAreaRight" b="textAreaBottom"/>
            <a:pathLst>
              <a:path w="1406" h="703">
                <a:moveTo>
                  <a:pt x="0" y="703"/>
                </a:moveTo>
                <a:cubicBezTo>
                  <a:pt x="64" y="464"/>
                  <a:pt x="129" y="226"/>
                  <a:pt x="363" y="113"/>
                </a:cubicBezTo>
                <a:cubicBezTo>
                  <a:pt x="597" y="0"/>
                  <a:pt x="1001" y="11"/>
                  <a:pt x="1406" y="2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4"/>
          <p:cNvSpPr/>
          <p:nvPr/>
        </p:nvSpPr>
        <p:spPr>
          <a:xfrm>
            <a:off x="108000" y="26845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5"/>
          <p:cNvSpPr/>
          <p:nvPr/>
        </p:nvSpPr>
        <p:spPr>
          <a:xfrm>
            <a:off x="7380360" y="6308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6"/>
          <p:cNvSpPr/>
          <p:nvPr/>
        </p:nvSpPr>
        <p:spPr>
          <a:xfrm>
            <a:off x="324000" y="6308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lose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37"/>
          <p:cNvSpPr/>
          <p:nvPr/>
        </p:nvSpPr>
        <p:spPr>
          <a:xfrm flipH="1">
            <a:off x="971640" y="3284640"/>
            <a:ext cx="662472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8"/>
          <p:cNvSpPr/>
          <p:nvPr/>
        </p:nvSpPr>
        <p:spPr>
          <a:xfrm>
            <a:off x="1547640" y="2924280"/>
            <a:ext cx="14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 = V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3995640" y="4005360"/>
            <a:ext cx="38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R is the ohmic resistance of the i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Object 40"/>
          <p:cNvGraphicFramePr/>
          <p:nvPr/>
        </p:nvGraphicFramePr>
        <p:xfrm>
          <a:off x="6443640" y="4581360"/>
          <a:ext cx="1511280" cy="14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3640" y="4581360"/>
                    <a:ext cx="151128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Picture 35" descr=""/>
          <p:cNvPicPr/>
          <p:nvPr/>
        </p:nvPicPr>
        <p:blipFill>
          <a:blip r:embed="rId3"/>
          <a:stretch/>
        </p:blipFill>
        <p:spPr>
          <a:xfrm>
            <a:off x="2052720" y="252360"/>
            <a:ext cx="46371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xi</dc:creator>
  <dc:description/>
  <dc:language>en-US</dc:language>
  <cp:lastModifiedBy>George.Xi</cp:lastModifiedBy>
  <dcterms:modified xsi:type="dcterms:W3CDTF">2014-09-10T00:04:41Z</dcterms:modified>
  <cp:revision>78</cp:revision>
  <dc:subject/>
  <dc:title>PowerPoint Presentation</dc:title>
</cp:coreProperties>
</file>